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D3ED-DFD7-4A90-85D5-905F2FA7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E6F5-0CC1-46F8-B0BE-3FE9180A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5965-B0A1-4C32-BCAF-1F0857B27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BA50-53FC-4D84-906F-81CEF8B54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0024-1120-4978-A354-4E7FAEA5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2D06-0C9B-4E8C-A2F4-DF167A5B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BB33-377D-4C75-9111-D630044C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E8B3-41F7-4998-A7AC-572030CC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B77A-2FAD-4C81-9096-FB78C09B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40FC-DB80-4CDF-85C6-DEF9C53A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CECC-74B7-41C8-8C52-388F03C1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6852-BA70-464B-AB9D-FE481BA4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85D9-0244-422C-8A26-01F09223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2B62-B73E-4331-A2F3-B5114867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9E20-5089-404A-AEF3-16DA591D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E4E6-A832-4BC8-921B-97AB8B56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8E3B-C74F-424B-9D77-8846032FC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DFEC-376C-480B-8E2F-7E955CCA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4C4E-0354-4E1F-889F-622C568E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796B-8506-475E-AEF1-7529E5BD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D292-C3DB-43B3-8742-5D527ED0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C578-8961-47A5-9668-C8B58C45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094F-E45F-4E08-A2D4-43471568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95D9-9A5F-436F-B97E-5B821962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135A-2B08-4AC7-A4A2-8C0F64675B0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8616-20B8-474D-ADE9-FB349EB8DFD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Tuesday, May 13th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295280" y="4800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uiz tomorrow on 3.1 to 3.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752480" y="2590920"/>
            <a:ext cx="57913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24 Ga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Questions from homewor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Arial"/>
              </a:rPr>
              <a:t>Lesson 3.4</a:t>
            </a:r>
            <a:br>
              <a:rPr sz="7500"/>
            </a:br>
            <a:r>
              <a:rPr b="0" lang="en-US" sz="7500" spc="-1" strike="noStrike">
                <a:solidFill>
                  <a:srgbClr val="ffffcc"/>
                </a:solidFill>
                <a:latin typeface="Arial"/>
              </a:rPr>
              <a:t>part one</a:t>
            </a:r>
            <a:endParaRPr b="0" lang="en-US" sz="75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ell if a number is a solution to an equation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2x+1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= 3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X = -1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X = 2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X = -2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hen solving an exponential equation, it might be helpful to rewrite it as a log (or vice versa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ve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= 3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= 21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= 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g x = -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= 6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14 + 3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= 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ssignment: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age</a:t>
            </a:r>
            <a:br>
              <a:rPr sz="4000"/>
            </a:br>
            <a:r>
              <a:rPr b="0" i="1" lang="en-US" sz="4000" spc="-1" strike="noStrike">
                <a:solidFill>
                  <a:srgbClr val="ffffcc"/>
                </a:solidFill>
                <a:latin typeface="Arial"/>
              </a:rPr>
              <a:t>(and partner quiz tomorrow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1:21:04Z</dcterms:created>
  <dc:creator>jnewman</dc:creator>
  <dc:description/>
  <dc:language>en-US</dc:language>
  <cp:lastModifiedBy>jnewman</cp:lastModifiedBy>
  <dcterms:modified xsi:type="dcterms:W3CDTF">2008-05-12T12:09:06Z</dcterms:modified>
  <cp:revision>7</cp:revision>
  <dc:subject/>
  <dc:title>Lesson 3.4</dc:title>
</cp:coreProperties>
</file>